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BB7B-90EE-44A3-A15B-061DE9F0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DF76-BBC9-418A-BFA5-61DD7951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7ACE-835B-4D1E-9AFC-C4665F80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32BC-ED00-41EA-B9C7-7C7592C2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F01D-5B24-4A4E-97C2-C32DD2ED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C05-DAEC-4EC5-A088-4409409F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939-C323-49C5-A05C-313119C7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D15B-7C9F-4CCB-93AB-17E54C3B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381A-3844-4D2E-9C84-A71F04FE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E79-5D12-4B47-8E7E-1EA61590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86BF-91AC-4B34-9EA2-074EFB79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850C-5060-4F28-8444-66256C95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8620-85A3-4E1F-99AF-63766C3EFD2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еотложная  Кардиология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ТО ВСТРЕЧАЮЩИЕСЯ ОШИБКИ ТЕРАПИИ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мендации парентерального введения клонидина и в/м введения сульфата магния, а также  недифференцированного в зависимости от типа ГК лечения (дибазол в/в или в/м, обзидан в/в, дроперидол в/в) вызывают серьезные возраж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окое использование клонидина ограничивает плохая предсказуемость эффекта (от развития коллапса до возможного  повышение АД за счет первоначальной стимуляции периферических альфа-адренорецепторов) и высокая вероятность развития побочных эффектов (включая сухость во рту, сонливость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/м введение сульфата магния не только крайне болезненно и некомфортно для пациента, но и чревато развитием осложнений, наиболее неприятное из которых – образование инфильтратов в месте введ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Часто встречающиеся ошибки терапии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базол не обладает выраженным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тензивным действием, его применение оправдано только при подозрении на нарушение мозгового кровообращ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утривенное введение обзидана требует от врача определенного навыка и чревато серьезными осложнениями, а дроперидол показан только при выраженном возбуждении больн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нение препаратов, не обладающих гипотензивным действием (анальгина, димедрола, но-шпы, папаверина и т.п.) при ГК не оправдан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Цель терапии Г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зированное снижение АД на 20 - 30% в течение 2 - 6 час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3760" y="4724280"/>
            <a:ext cx="68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екомендации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merican College of Cardiology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Алгоритм выбора терапии при ГК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97720" y="685800"/>
            <a:ext cx="3141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пертонический кри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84840" y="1447920"/>
            <a:ext cx="3552120" cy="4406760"/>
            <a:chOff x="384840" y="1447920"/>
            <a:chExt cx="3552120" cy="4406760"/>
          </a:xfrm>
        </p:grpSpPr>
        <p:sp>
          <p:nvSpPr>
            <p:cNvPr id="128" name=""/>
            <p:cNvSpPr/>
            <p:nvPr/>
          </p:nvSpPr>
          <p:spPr>
            <a:xfrm>
              <a:off x="384840" y="1447920"/>
              <a:ext cx="3498480" cy="916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Без клинических признак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ражения органов-мишеней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и неврологической симптоматик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5560" y="2666880"/>
              <a:ext cx="250776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остояние пациента не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зывает опасений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8720" y="3657600"/>
              <a:ext cx="3018240" cy="146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Терапия пероральным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гипотензивными ЛС, 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лучае тревожности ил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анической атаки допустимо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рименение анксиолитик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94320" y="5486400"/>
              <a:ext cx="28890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Контроль через 6 - 24 час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185080" y="1371600"/>
            <a:ext cx="3713400" cy="4917240"/>
            <a:chOff x="5185080" y="1371600"/>
            <a:chExt cx="3713400" cy="4917240"/>
          </a:xfrm>
        </p:grpSpPr>
        <p:sp>
          <p:nvSpPr>
            <p:cNvPr id="133" name=""/>
            <p:cNvSpPr/>
            <p:nvPr/>
          </p:nvSpPr>
          <p:spPr>
            <a:xfrm>
              <a:off x="5185080" y="1371600"/>
              <a:ext cx="3713400" cy="146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еврологическая симптоматика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тинопатия (нарушение зрения)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Боль в груди, Отек легких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Эклампсия, Катехоламиновый криз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чечная недостаточность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04880" y="3162240"/>
              <a:ext cx="33948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Состояние пациента </a:t>
              </a: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тяжело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99840" y="4076640"/>
              <a:ext cx="30855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Неотложная в/в терапи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04880" y="5829120"/>
              <a:ext cx="244980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Госпитализац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942720" y="6491160"/>
            <a:ext cx="52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Рекомендации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merican College of Cardiology, 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9216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К без клинических признаков поражения органов-мишеней и неврологической симптоматики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3657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1143000"/>
            <a:ext cx="3962520" cy="56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ffff"/>
                </a:solidFill>
                <a:uFillTx/>
                <a:latin typeface="Times New Roman"/>
              </a:rPr>
              <a:t>Российские реалии - в/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1. Дибаз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2. Дротавер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3. Папавер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4. Метамиз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5. Димедр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6. Сульфат маг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7. Клонид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8. Дроперид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Госпитализация в стационар либо с сохраняющейся АГ либо с клиникой побочных эффектов применения лекарственных средст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43000"/>
            <a:ext cx="5181480" cy="52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m.Coll.Cardiology, 1999 - per 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Нифедипин 5-20 м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Лабеталол 200-1200м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Каптоприл 25-50 м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Клонидин 01-04м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 Фуросемид 40-80 м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. Диазепам 5-10 м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 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ли 10 мг в/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Амбулаторное наблю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ормагнезин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s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агнезия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орошая переносим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добство дозир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űrproduch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охая переносим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сокая концентр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си стекла и асбес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460160"/>
            <a:ext cx="4343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неврологическая симптоматика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4114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Нитропруссид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Na </a:t>
            </a: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в/в 0,25-10 мкг/к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Лабеталол 2-4 м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Урапидил 12,5-25 мг болюс, инфузия 5-40 мг/ча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Никардипин 5-15 мг/ча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080" y="129528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m.Coll.Cardiology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1828800"/>
            <a:ext cx="3962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Эклампс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2362320"/>
            <a:ext cx="4495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Гидралазин 10-20мг в/в, или 20-50 мг в/м каждые 4-6 час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гния сульфат 1-2,5 г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69640" y="38088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ЛОЖНЕННЫЙ Г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10552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ffff"/>
                </a:solidFill>
                <a:uFillTx/>
                <a:latin typeface="Times New Roman"/>
              </a:rPr>
              <a:t>Российские реалии - в/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Дибазол, Дротаверин, Папаверин, Метамизол, Димедрол,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ульфат магния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, Клонидин, Дроперид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2193480"/>
            <a:ext cx="28191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тек легких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2742840"/>
            <a:ext cx="4648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Нитропруссид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Na </a:t>
            </a: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в/в 0,25-10 мкг/к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троглицерин 5-100 м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уросемид 20-8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рфин 2,5-1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налаприлат 0,625-1,25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галяция 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06120" y="152388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m.Coll.Cardiology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2743200"/>
            <a:ext cx="4724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троглицерин 5-100 м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рфин 2,5-1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Эсмолол 50-300мкг/к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64440" y="213372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стрый коронарный синдр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181480"/>
            <a:ext cx="91440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ffff"/>
                </a:solidFill>
                <a:uFillTx/>
                <a:latin typeface="Times New Roman"/>
              </a:rPr>
              <a:t>Российские реал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итроглицерин, Морфин,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Дибазол, Дротаверин, Папаверин, Метамизол, Димедрол, Сульфат магния, Клонидин, Дроперид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7360" y="38088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ЛОЖНЕННЫЙ Г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Алгоритм лечения ГК на догоспитальном этапе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(Федеральное руководство для врачей по использованию лекарственных средств, выпуск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, 200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1066680"/>
            <a:ext cx="47242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Гипертоническая энцефалопат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федипин п/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базол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необходимости – эуфиллин, магния сульфат, диазепам, маннитол и фуросемид, дексаметаз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НМ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федипин п/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гния сульфат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базол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страя сердечная недостаточ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троглицерин 5-100 м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уросемид (лазикс) (до 200 мг)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Расслаивающая аневризма аор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трия нитропруссид (нифедипин)+препранолол или верапами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429000"/>
            <a:ext cx="4114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457200" y="3962520"/>
            <a:ext cx="44956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828800"/>
            <a:ext cx="312408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покинетический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ифедипин 5-2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птоприл 25-5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перкинетический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онидин 01-04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г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пропранолол 20-4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219320"/>
            <a:ext cx="247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Неосложненный Г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4648320"/>
            <a:ext cx="3657600" cy="22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Выраженная вегетативная, психоэмоциональная окрас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азепам п/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2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тмена клонид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онидин п/я или в/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казания к госпитализации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циональны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рекомендац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о диагностике и лечению артериальной гипертензии, 200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904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К, не купирующийся на догоспитальном этап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К с выраженными проявлениями гипертонической энцефалопат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ложнения, требующие интенсивной терапии и постоянного врачебного наблюдения (инсульт, субарахноидальное кровоизлияние, остро возникшие нарушения зрения, отек легких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Гипертонический криз (ГК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сложненный гипертензивный (гипертонический) кри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зкое внезапное повышение АД до индивидуально высоких величин при минимальной субъективной и объективной симптомати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ложнен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ипертензив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криз, или собственно гипертензив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гипертоничес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 внезапное повышение АД п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 наличии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раженны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оявлений с субъективными и объективными признаками церебральных, сердечно-сосудистых и вегетативных нару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Мерцательная аритм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Алгоритм принятия решения при вызове к пациенту с мерцательной аритмией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95560" y="1447920"/>
            <a:ext cx="4952880" cy="60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рцательная аритм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2666880"/>
            <a:ext cx="2743200" cy="457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оян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2666880"/>
            <a:ext cx="2743200" cy="4572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окс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3657600"/>
            <a:ext cx="1600200" cy="6858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хисисто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1600200" cy="6858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рмосисто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3657600"/>
            <a:ext cx="1600200" cy="6858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емодинам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биль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86600" y="3657600"/>
            <a:ext cx="1600200" cy="6858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емодинам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табиль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029200"/>
            <a:ext cx="1523880" cy="6858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гокс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5029200"/>
            <a:ext cx="1524240" cy="68580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еотложна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рапия н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каза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5029200"/>
            <a:ext cx="1523880" cy="685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вокаинами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62920" y="5029200"/>
            <a:ext cx="1523880" cy="68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895120" y="2057400"/>
            <a:ext cx="16765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2057400"/>
            <a:ext cx="18288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371600" y="3124080"/>
            <a:ext cx="1295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312408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714640" y="312408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3124080"/>
            <a:ext cx="1447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434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434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434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434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ерцательная аритмия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оянная – контроль Ч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систирующая – восстановление синусового ритма и его поддерж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роксизмальная – профилактика тромбоэмболических осложн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одходы к лечению мерцательной аритмии - рекомендации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A/AHA/ES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371600"/>
            <a:ext cx="4952880" cy="60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рцательная аритм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286000"/>
            <a:ext cx="2743200" cy="457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роксизмаль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2286000"/>
            <a:ext cx="2743200" cy="4572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систирующ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352680"/>
            <a:ext cx="2743200" cy="12193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отсутств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мптоматики терап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требует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181480"/>
            <a:ext cx="2743200" cy="12193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нтикоагулянт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рап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3429000"/>
            <a:ext cx="1676520" cy="8380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тоян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5257800"/>
            <a:ext cx="2210040" cy="11430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троль Ч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981080" y="1981080"/>
            <a:ext cx="24386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27432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45720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724280" y="2743200"/>
            <a:ext cx="24386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4267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285640" y="4267080"/>
            <a:ext cx="24382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5181480"/>
            <a:ext cx="2590920" cy="12193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держание ритм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3352680"/>
            <a:ext cx="2590920" cy="12193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рдиоверс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45720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0120" y="27432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00600" y="1981080"/>
            <a:ext cx="2590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тивопоказания к восстановлению синусового ритма на догоспитальном этапе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ительность пароксизма мерцания предсердий более двух дн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казанная дилатация левого предсердия (передне-задний размер 4,5 см по ЭхоКГ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тромбов в предсердиях или тромбоэмболические осложнений в анамнез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тие пароксизма на фоне острого коронарного синдрома (при наличии стабильной гемодинамики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тие пароксизма на фоне выраженных электролитных наруш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компенсация тиреотоксикоз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оказания к госпитализации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впервые зарегистрированное мерцание предсерди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затянувшийся пароксиз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отсутствие эффекта от медикаментозной терап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пароксизм с высокой частотой желудочковых сокращений и развитием осложнений аритм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частые рецидивы мерцательной аритмии (для подбора антиаритмической терапии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ри постоянной форме мерцательной аритмии госпитализация показана при высокой тахикардии, нарастании сердечной недостаточ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Алгоритм кардиоверсии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коз +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безболи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еторол 30 гм 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дазолам (Дормикум) 5-15 мг 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вывода из наркоза – Флумазенил (Анексат) 0,2-0,3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рдиоверсия нарастающими разрядами от 200 до 360 Дж (всего три попытки). Пауза между разрядами должна быть не меньше 1 мин во избежание повреждения миокар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Фармакологическая кардиоверсия – рекомендации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A/AHA/ES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33520" y="1397160"/>
            <a:ext cx="8381880" cy="4983120"/>
            <a:chOff x="533520" y="1397160"/>
            <a:chExt cx="8381880" cy="4983120"/>
          </a:xfrm>
        </p:grpSpPr>
        <p:sp>
          <p:nvSpPr>
            <p:cNvPr id="221" name=""/>
            <p:cNvSpPr/>
            <p:nvPr/>
          </p:nvSpPr>
          <p:spPr>
            <a:xfrm>
              <a:off x="6819840" y="592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24280" y="592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I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29080" y="592452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 os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ли 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3520" y="592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отало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19840" y="5407200"/>
              <a:ext cx="20955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24280" y="5407200"/>
              <a:ext cx="20955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II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29080" y="5407200"/>
              <a:ext cx="20952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Per os </a:t>
              </a: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или 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3520" y="5407200"/>
              <a:ext cx="20955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Дигокси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19840" y="495144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24280" y="495144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II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29080" y="495144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520" y="495144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Прокаинами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19840" y="449568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24280" y="449568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I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29080" y="449568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 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520" y="449568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иниди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19840" y="404028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24280" y="404028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I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29080" y="4040280"/>
              <a:ext cx="2095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Per os </a:t>
              </a: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или 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3520" y="404028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Амиодаро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19840" y="358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24280" y="358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29080" y="358452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Per os </a:t>
              </a: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или 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520" y="358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Пропафено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19840" y="312912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24280" y="312912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29080" y="3129120"/>
              <a:ext cx="2095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3520" y="312912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бутили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19840" y="267336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24280" y="267336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29080" y="267336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\в или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 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3520" y="267336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Флекаини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19840" y="221760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24280" y="221760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29080" y="221760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 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520" y="221760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офетили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19840" y="1397160"/>
              <a:ext cx="2095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ровень доказанност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4280" y="1397160"/>
              <a:ext cx="2095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Тип рекомендаци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29080" y="1397160"/>
              <a:ext cx="20952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уть введе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3520" y="1397160"/>
              <a:ext cx="2095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репара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520" y="1397160"/>
              <a:ext cx="83818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520" y="221760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3520" y="267336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3520" y="312912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3520" y="358452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3520" y="404028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3520" y="449568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3520" y="495144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20" y="540720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3520" y="6380280"/>
              <a:ext cx="83818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3520" y="1397160"/>
              <a:ext cx="0" cy="498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29080" y="1397160"/>
              <a:ext cx="0" cy="498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24280" y="1397160"/>
              <a:ext cx="0" cy="498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19840" y="1397160"/>
              <a:ext cx="0" cy="498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915400" y="1397160"/>
              <a:ext cx="0" cy="498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3520" y="592452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Антиаритмики – режимы введения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пафенон – 450-600 мг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 o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ли 1,5-2,0 мг/кг за 10-20 ми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миодарон – 600-800 мг/сут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 o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до дозы 10 г), затем 200-400 мг/сут в качестве подерживающей дозы или 30-60 минутная инфузия 5-7 мг/кг с последующим переходом на перорральный пр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каинамид – 500-1000 мг внутривенно за 10-20 минут с контролем АД и ширины желудочковых комплекс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инидин – 0,75 – 1,5 г за 6-12 часов параллельно с препаратом, замедляющим рит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ерцательная аритмия – выбор лечения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фаркт миокарда – ЭИТ, кордарон, бета-блокаторы, дигоксин; гепар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индром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PW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ЭИТ; при комплексах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RS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 бельше 0,12 с – ибутилид, прокаинамид, кордарон.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Не рекомендуются или противопоказаны бета-блокаторы, дигоксин, верапам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КМП – амиодарон, дизопирами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структивные заболевания легких – антагонисты каль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ременность – дигоксин, бета-блокаторы, антагонисты кальция; ЭИТ по строгим показания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реотоксикоз – бета блокаторы, при их плохой переносимости антагонисты каль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ричины возникновения и патогенез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Сосудистый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вышение ОПС за счет увеличения тонуса артериол – вазомоторного ( обусловленного нейрогуморальными влияниями ) и базального ( при задержке натрия 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Кардиальный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величение сердечного выброса за счет повышения ЧСС, ОЦК и сократимости миокар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нение вазодилатат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нение бетаадреноблокаторов, антагонистов кальция ( верапамила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епараты для достижения контроля над ЧСС (рекомендации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A/AHA/ESC)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28600" y="1752480"/>
            <a:ext cx="8686800" cy="4451400"/>
            <a:chOff x="228600" y="1752480"/>
            <a:chExt cx="8686800" cy="4451400"/>
          </a:xfrm>
        </p:grpSpPr>
        <p:sp>
          <p:nvSpPr>
            <p:cNvPr id="283" name=""/>
            <p:cNvSpPr/>
            <p:nvPr/>
          </p:nvSpPr>
          <p:spPr>
            <a:xfrm>
              <a:off x="6167520" y="5504040"/>
              <a:ext cx="2747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125-0,25 мг/су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25880" y="5504040"/>
              <a:ext cx="124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 ч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98520" y="5504040"/>
              <a:ext cx="27273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25 мг в/в каждые 2 часа до 1,5 мг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" y="5504040"/>
              <a:ext cx="1969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Дигокс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67520" y="4803840"/>
              <a:ext cx="274788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--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25880" y="4803840"/>
              <a:ext cx="12416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3-5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98520" y="4803840"/>
              <a:ext cx="272736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075-0,15 мг/кг за 2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" y="4803840"/>
              <a:ext cx="19699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Верапами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67520" y="4216320"/>
              <a:ext cx="2747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--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25880" y="4216320"/>
              <a:ext cx="1241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5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98520" y="4216320"/>
              <a:ext cx="27273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15 мг/кг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8600" y="4216320"/>
              <a:ext cx="1969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Пропраноло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67520" y="3516480"/>
              <a:ext cx="2747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--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25880" y="3516480"/>
              <a:ext cx="124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5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98520" y="3516480"/>
              <a:ext cx="27273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,5-5 мг болюсом за 2 мин (трижды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8600" y="3516480"/>
              <a:ext cx="1969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Метопроло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67520" y="2928960"/>
              <a:ext cx="2747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05-0,2 мг/кг/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25880" y="2928960"/>
              <a:ext cx="1241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5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98520" y="2928960"/>
              <a:ext cx="27273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5 мг/кг за 1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8600" y="2928960"/>
              <a:ext cx="1969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Эсмоло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67520" y="2340000"/>
              <a:ext cx="274788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5-15 мг/ч - инфузи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25880" y="2340000"/>
              <a:ext cx="1241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-7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98520" y="2340000"/>
              <a:ext cx="27273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25 мг/кг за 2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" y="2340000"/>
              <a:ext cx="19699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Дилтиазе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67520" y="1752480"/>
              <a:ext cx="2747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Поддерживающая доз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25880" y="1752480"/>
              <a:ext cx="1241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Эффек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98520" y="1752480"/>
              <a:ext cx="27273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Нагрузочная доз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8600" y="1752480"/>
              <a:ext cx="1969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Препара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600" y="1752480"/>
              <a:ext cx="86868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8600" y="234000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600" y="292896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8600" y="351648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8600" y="421632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600" y="480384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8600" y="550404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" y="6203880"/>
              <a:ext cx="86868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8600" y="1752480"/>
              <a:ext cx="0" cy="4451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98520" y="1752480"/>
              <a:ext cx="0" cy="445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25880" y="1752480"/>
              <a:ext cx="0" cy="445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67520" y="1752480"/>
              <a:ext cx="0" cy="445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915400" y="1752480"/>
              <a:ext cx="0" cy="4451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нфаркт миокард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лгоритм терапии при Q-ИМ (инфаркте с подъемом ST или острым развитием БЛНПГ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61920" y="2128680"/>
            <a:ext cx="7491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троглицерин сублингваль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спирин 250 мг разжева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рфин 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1 м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троглицерин – инфузия 0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1%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твора (от 0,3 до 2 м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н – под контролем АД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возможной задержке с тромболитической терапией более 1 часа – 1500000 ЕД стрептокиназы (инфузия за 30-6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еперфузионная терап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сервативная (тромболитики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еративная (АКШ, балонная ангиопластик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_______________________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12-20% случаев в первые сутки ОИМ фиксируется спонтанный лизис тромба с восстановлением кровото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779400"/>
            <a:ext cx="77724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51460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еперфузионный синдром (клинические проявления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рушения ритма и проводим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гнетение сократительной способности миокар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цидив болевого синдро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менения на ЭКГ (парадоксальное увеличение степени подъема ST, удлинение QT, увеличение дисперсии Q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Теоретическое обоснование положительного эффекта магния при инфаркте миокарда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349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леточный уров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сстановление внутриклеточной концентрации магния в кардиомиоцит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меньшение степени повреждения миокарда (ограничение перегрузки кальцием, подавление активности свободных радикалов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349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рганный уров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емодинамическая разгрузка миокард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лучшение перфузии зоны ишемического рис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иаритмический эффек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одулирование воспалительной реакции в зоне риска путем воздействия на систему комплемен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349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стемный уров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итромбоцитарное действ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иэндотелиновое воздейств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Динамика сегмента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у пациентов, получивших тромболитическую терапию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069920" y="1830240"/>
          <a:ext cx="7761240" cy="45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1830240"/>
                    <a:ext cx="776124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Динамика дисперсии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Q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038240" y="2274840"/>
          <a:ext cx="7169040" cy="36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2274840"/>
                    <a:ext cx="716904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Часто встречающиеся ошибки терапии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бинац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нальгина с антигистаминными препаратами обладает лишь умеренными анальгетическим и седативным эффектами и не способна снизить нагрузку на миокард. ингаляции кислорода не могут увеличить его доставки в миокард при коронарной недостаточност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нангин не обла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лиянием ни на коронарный кровоток, ни на потребность миокарда в кислород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теря времени, затягивание ишемии и увеличение угрозы развития некрозов миокарда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Необходимы минимум лекарственных средств для лечения острого коронарного синдрома на догоспитальном этапе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2193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спир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пар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рмагнез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рф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троглицер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ептокина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имптоматика Г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1600200"/>
            <a:ext cx="8610480" cy="4800600"/>
            <a:chOff x="228600" y="1600200"/>
            <a:chExt cx="8610480" cy="4800600"/>
          </a:xfrm>
        </p:grpSpPr>
        <p:sp>
          <p:nvSpPr>
            <p:cNvPr id="50" name=""/>
            <p:cNvSpPr/>
            <p:nvPr/>
          </p:nvSpPr>
          <p:spPr>
            <a:xfrm>
              <a:off x="4267080" y="2884680"/>
              <a:ext cx="457200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озбуждение или заторможенность, мышечная дрожь,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гипергидроз, гиперемия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кожи, субфебрилитет, преходящие симптомы очаговых нарушений в ЦНС; тахи- или брадикардия, экстрасистолия;; акцент и расщепление II тона над аортой; признаки систолической перегрузки левого желудочка на ЭКГ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600" y="2884680"/>
              <a:ext cx="403848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оловная боль, несистемное головокружение, тошнота и рвота, ухудшение зрения, кардиалгия, сердцебиение и перебои в работе сердца, одышка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267080" y="1600200"/>
              <a:ext cx="457200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Объективные симптомы криз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600" y="1600200"/>
              <a:ext cx="403848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бъективные симптомы криза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8600" y="640080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1600200"/>
              <a:ext cx="0" cy="4800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8600" y="288468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160020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67080" y="1600200"/>
              <a:ext cx="0" cy="4800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1600200"/>
              <a:ext cx="0" cy="4800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ритмии: определени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11120" y="2128680"/>
            <a:ext cx="714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6560" indent="-4665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ты, ритмичности и (или) последовательности сердечных сокращений: учащение (тахикардия) либо урежение (брадикардия) ритма, преждевременные сокращения (экстрасистолия), дезорганизация ритмической деятельности (мерцательная аритмия) и т.д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нтиаритмическая терапия на догоспитальном этапе показана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5578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лохой субъективной переносимости наруше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ердечного ритм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 гемодинамически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чимых аритмиях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огностически значимых аритмиях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228600" y="304920"/>
            <a:ext cx="8610480" cy="6024600"/>
            <a:chOff x="228600" y="304920"/>
            <a:chExt cx="8610480" cy="6024600"/>
          </a:xfrm>
        </p:grpSpPr>
        <p:sp>
          <p:nvSpPr>
            <p:cNvPr id="353" name=""/>
            <p:cNvSpPr/>
            <p:nvPr/>
          </p:nvSpPr>
          <p:spPr>
            <a:xfrm>
              <a:off x="4533840" y="762120"/>
              <a:ext cx="4305240" cy="55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инусовые тахикардия, брадикардия и аритмия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стоянная форма мерцания и трепетания предсердий без признаков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ЗСН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экстрасистолия (за исключением желудочковой при остром инфаркте миокарда)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скоренный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зловой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итм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В-блокада I и II степени у лиц без инфаркта миокарда в анамнезе и приступов МЭ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локады ножек пучка Гиса.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8600" y="762120"/>
              <a:ext cx="4305240" cy="55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ароксизмальная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правентрикулярная тахикардия;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ароксизм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ы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мерцани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трепетани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предсердий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елудочковая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ахикардия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елудочковая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экстрасистолия в острейшей стадии инфаркта миокарда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радиаритмии с развитием приступов МЭ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33840" y="304920"/>
              <a:ext cx="430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е требуют терапи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8600" y="304920"/>
              <a:ext cx="430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Требуют терапи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8600" y="30492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8600" y="76212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" y="632952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8600" y="304920"/>
              <a:ext cx="0" cy="6024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33840" y="304920"/>
              <a:ext cx="0" cy="602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839080" y="304920"/>
              <a:ext cx="0" cy="6024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Перечень обязательных вопросов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52280" y="1600200"/>
            <a:ext cx="8763120" cy="4915080"/>
            <a:chOff x="152280" y="1600200"/>
            <a:chExt cx="8763120" cy="4915080"/>
          </a:xfrm>
        </p:grpSpPr>
        <p:sp>
          <p:nvSpPr>
            <p:cNvPr id="365" name=""/>
            <p:cNvSpPr/>
            <p:nvPr/>
          </p:nvSpPr>
          <p:spPr>
            <a:xfrm>
              <a:off x="3409920" y="5712840"/>
              <a:ext cx="550548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6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читывается при выборе терапии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По эффективности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пределенного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нтиаритмика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(аденозин, лидокаин) иногда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ожно определить вид нарушений ритма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52280" y="5712840"/>
              <a:ext cx="3257640" cy="802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6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Были ли подобные пароксизмы ранее? Если да, то чем они снимались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09920" y="4910400"/>
              <a:ext cx="550548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обходимо выявить возможные осложнения аритмии.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52280" y="4910400"/>
              <a:ext cx="3257640" cy="802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2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Не было ли обмороков, удушья, боли в области сердца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09920" y="4315320"/>
              <a:ext cx="55054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т давности аритмии зависит, в частности, тактика оказания помощи при мерцательной аритмии.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2280" y="4315320"/>
              <a:ext cx="3257640" cy="594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Как давно возникло ощущение сердцебиения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09920" y="3272040"/>
              <a:ext cx="5505480" cy="10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3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ритмии, субъективно не ощущаемые, нередко не нуждаются в неотложной терапии; отсутствие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щ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щений, затрудняет определение давности аритмии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2280" y="3272040"/>
              <a:ext cx="3257640" cy="1043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Есть ли ощущение сердцебиения или перебоев в работе сердца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09920" y="2469600"/>
              <a:ext cx="550548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6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которые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репараты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провоцируют нарушения ритма и проводимости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;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обходимо учитывать взаимодействие антиаритмиков с др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. препаратами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2280" y="2469600"/>
              <a:ext cx="3257640" cy="802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Какие 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препараты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пациент принимал в последнее время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09920" y="1600200"/>
              <a:ext cx="550548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обходимо выяснить возможную причину аритмии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52280" y="1600200"/>
              <a:ext cx="3257640" cy="869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Есть ли в анамнезе заболевания сердца, щитовидной железы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2280" y="1600200"/>
              <a:ext cx="8763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2280" y="246960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2280" y="327204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280" y="431532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2280" y="491040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2280" y="571284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280" y="6515280"/>
              <a:ext cx="8763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2280" y="1600200"/>
              <a:ext cx="0" cy="4915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09920" y="1600200"/>
              <a:ext cx="0" cy="491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915400" y="1600200"/>
              <a:ext cx="0" cy="4915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Лечение аритмии на догоспитальном этапе: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общие принцип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ктика зависит от вида аритм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нестабильной гемодинамике в большинстве случаев показана ЭИТ, медикаментозная терапия проводится при стабильной гемодинами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отсутствии эффекта от одного антиаритмического средства медикаментознаяч терапия прекращается, показана госпитализация (исключение – желудочковая тахикардия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ароксизм суправентрикулярной тахикардии: алгоритм леч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модинамика нестабильна – ЭИ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модинамика стабильна – вагусные про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эффекта от вагусных проб – верапамил (изоптин) в/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одозрении на синдром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PW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новокаинамид в/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параты резерва – дигоксин, пропраноло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ароксизм суправентрикулярной тахикардии: показания к госпитализаци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ервые зарегистрированн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рушения ритм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утств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ффекта от медикаментозной терапии (на догоспитальном этапе применяют только одно аритмическое средство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явле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сложнений, потребовавших проведения электроимпульсной терап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рецидивирующ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рушения рит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Пароксизм желудочковой тахикардии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295280" y="2971800"/>
            <a:ext cx="6896520" cy="154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госпитализация показана всегд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ароксизм желудочковой тахикардии: алгоритм леч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модинамика нестабильна – ЭИТ, после восстановления синусового ритма – поддерживающая терапия лидокаин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модинамика стабильна – лидокаин в/в струйно болюсом (80-100 мг), затем поддерживающая инфузия (20-55 мкг/кг/мин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отсутствии эффекта и стабильной гемодинамике, при невозможности проведения ЭИТ – новокаинамид (в/в дробно по 100 мг каждые 5 мин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Пируэт», а также тахикардии, рефрактерные к терапии лидокаином и новокаинамидом – магния сульфат в/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Догоспитальная помощь при ТЭЛА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рфин 1% - 1-2 мл в/в фракционно (до достижения эффект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парин 10 000 Ед в/в болюсом (за исключением случаев, когда пациент принимает непрямые антикоагулянты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ополиглюкин  – инфузия со скоростью 1-2 мл/м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САД выше 6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 H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в/в введение нитропруссида натрия или изосорбида динитра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САД 6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m H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ниже – введение прессорных ами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бронхоспазме – в/в введение эуфиллина или изопротерено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лассификация Г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57200" y="1371600"/>
            <a:ext cx="8418600" cy="5288040"/>
            <a:chOff x="457200" y="1371600"/>
            <a:chExt cx="8418600" cy="5288040"/>
          </a:xfrm>
        </p:grpSpPr>
        <p:sp>
          <p:nvSpPr>
            <p:cNvPr id="62" name=""/>
            <p:cNvSpPr/>
            <p:nvPr/>
          </p:nvSpPr>
          <p:spPr>
            <a:xfrm>
              <a:off x="6248520" y="4013280"/>
              <a:ext cx="262728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От нескольких часов до нескольких дней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05320" y="4013280"/>
              <a:ext cx="274320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До 3-4 ч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4013280"/>
              <a:ext cx="304812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Продолжительность криза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48520" y="5175360"/>
              <a:ext cx="2627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Нормальная или брадикарди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05320" y="5175360"/>
              <a:ext cx="2743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Тахикарди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" y="5175360"/>
              <a:ext cx="3048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ЧСС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48520" y="6191280"/>
              <a:ext cx="2627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Сосудистый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05320" y="6191280"/>
              <a:ext cx="27432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Кардиальный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6191280"/>
              <a:ext cx="30481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Осн. Механизм криза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48520" y="2997360"/>
              <a:ext cx="2627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Постепенно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5320" y="2997360"/>
              <a:ext cx="2743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Остро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2997360"/>
              <a:ext cx="3048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Развитие криза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48520" y="1981080"/>
              <a:ext cx="262728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Чаще, поздня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05320" y="1981080"/>
              <a:ext cx="274320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Чаще, рання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1981080"/>
              <a:ext cx="304812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Стадия АГ, на которой возникает ГК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8520" y="1371600"/>
              <a:ext cx="2627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Гипокинетический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05320" y="1371600"/>
              <a:ext cx="2743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Гиперкинетический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" y="1371600"/>
              <a:ext cx="3048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1371600"/>
              <a:ext cx="8418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" y="198108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" y="299736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401328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6659640"/>
              <a:ext cx="8418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" y="1371600"/>
              <a:ext cx="0" cy="528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5320" y="1371600"/>
              <a:ext cx="0" cy="528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48520" y="1371600"/>
              <a:ext cx="0" cy="528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875800" y="1371600"/>
              <a:ext cx="0" cy="528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619128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" y="517536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Задачи терапии ТЭЛ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пирование «дыхательной паник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езболив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билизация гемодинами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отвращение роста тромб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лучшение реологических свойств кров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перфузионная терап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ЭКГ-признаки ТЭЛА (появляются в  25% случаев).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знаки перегрузки правого предсердия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pulmonale - высокий заостренный зубец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отведениях II, III, aVF) и правого желудочка (синдром Мак-Джина-Уайта - глубокий зубец S в I отведении, глубокий зубец Q и отрицательный зубец Т в III отведении с возможным подъемом сегмента SТ; неполная блокада правой ножки пучка Гис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линические признаки ТЭЛ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незапное начало с появлением одышки (72% случаев) и острой боли в груди (86%), часто -  острая сосудистая недостаточность с появлением бледности, цианоза, тахикардии (87%), падением АД вплоть до развития коллапса и потери сознания (12%). При развитии инфаркта легкого в 10-50% случаев появляется кровохарканье в виде прожилок крови в мокроте. При осмотре могут определяться признаки легочной гипертензии и острого легочного сердца – набухание и пульсация шейных вен, расширение границ сердца вправо, пульсация в эпигастрии, усиливающаяся на вдохе, акцент и раздвоение II тона на легочной артерии, увеличение печени. Возможно появление сухих хрипов над легким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</a:rPr>
              <a:t>Кардиогенный шок</a:t>
            </a:r>
            <a:br>
              <a:rPr sz="5400"/>
            </a:b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just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Кардиогенный ш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инический синдром, характеризующийся артериальной гипотензией (САД менее 90-80 мм рт.ст., или на 30 мм рт.ст. ниже "рабочего" уровня у лиц с артериальной гипертензией, уменьшением пульсового давления и признаками резкого ухудшения микроциркуляции и перфузии тканей, в том числе кровоснабжения мозга и почек (заторможенность или возбуждение, падение диуреза менее 20 мл в час, холодная кожа, покрытая липким потом, бледность, серый цианоз, мраморный рисунок кожи); синусовая тахикардия, имеющая компенсаторный характе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арианты кардиогенного шока: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1) -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аритмический шок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ивается как результат падения минутного объема кровообращения вследствие тахикардии/тахиаритмии или брадикардии/брадиаритмии; после купирования нарушения ритма достаточно быстро восстанавливается адекватная гемодинамик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рефлекторный шо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(болевой коллапс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развивается как реакция на боль и характеризуется быстрым ответом на обезболивающую терапию; отсутствием признаков застойной сердечной недостаточности, ухудшения тканевой перфузии (в частности, серого цианоза); пульсовое давление обычно превышает критический уровен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3)  -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истинный кардиогенный шо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вается при объеме поражения, превышающем 40-50% массы миокарда левого желудочка (чаще при передне-боковых и повторных инфарктах, у лиц старше 60 лет, на фоне артериальной гипертензии и сахарного диабета), характеризуется развернутой картиной шока, устойчивой к терапии, нередко сочетающейся с застойной левожелудочковой недостаточностью; в зависимости от выбранных критериев диагностики этого состояния приводимые уровни летальности (в отсутствие хирургического лечения) колеблются на уровне 80-100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Лечение кардиогенного шок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лючается в повышении сердечного выброса, что достигается различными способами, значимость которых меняется в зависимости от клинического варианта шо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пирование неблагоприятных рефлекторных влияний на гемодинамик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рьба с нарушениями сердечного рит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еспечение адекватного венозного возврата и диастолического наполнения левого желудочка, борьба с гиповолемией и нарушениями реологических свойств кров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сстановление адекватной тканевой перфузии жизненно важных органов, в частности, сердц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имуляция сократимости миокарда негликозидными инотропными средствам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модинамическая разгрузка сердца за счет снижения пост- и преднагруз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признаков застойной сердечной недостаточности (одышки, влажных хрипов в задненижних отделах легких) больному необходимо придать горизонтальное положение или даже положение Тренделенбурга (с приспущенным головным концом), что, увеличивая венозный возврат к сердцу, способствует возрастанию сердечного выброс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89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озможные осложнения Г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4920" y="1422360"/>
            <a:ext cx="8610480" cy="4664160"/>
            <a:chOff x="304920" y="1422360"/>
            <a:chExt cx="8610480" cy="4664160"/>
          </a:xfrm>
        </p:grpSpPr>
        <p:sp>
          <p:nvSpPr>
            <p:cNvPr id="93" name=""/>
            <p:cNvSpPr/>
            <p:nvPr/>
          </p:nvSpPr>
          <p:spPr>
            <a:xfrm>
              <a:off x="3962520" y="3519360"/>
              <a:ext cx="495288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арактерный болевой синдром, изменения ЭК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920" y="3519360"/>
              <a:ext cx="365760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стрый коронарный синдро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62520" y="4535640"/>
              <a:ext cx="4952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Боль, картина шока, аортальная недостаточность, тампонада перикарда, ишемия кишечника, мозга, конечностей и др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920" y="4535640"/>
              <a:ext cx="365760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асслаивание аневризмы аорт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62520" y="3063960"/>
              <a:ext cx="4952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чаговые расстройств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4920" y="3063960"/>
              <a:ext cx="3657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НМ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62520" y="1878120"/>
              <a:ext cx="49528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Головная боль, спутанность сознания, тошнота, рвота, судороги, ком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920" y="1878120"/>
              <a:ext cx="365760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Гипертоническая энцефалопат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62520" y="1422360"/>
              <a:ext cx="49528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линические проявле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4920" y="1422360"/>
              <a:ext cx="365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сложнени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920" y="142236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920" y="187812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4920" y="306396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4920" y="351936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4920" y="608652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1422360"/>
              <a:ext cx="0" cy="46641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2520" y="1422360"/>
              <a:ext cx="0" cy="466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915400" y="1422360"/>
              <a:ext cx="0" cy="46641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453564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Вне зависимости от особенностей клинической картины необходимо обеспечить полноценную анальгезию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пирование нарушений ритма является важнейшим мероприятием по нормализации сердечного выброса, даже если после восстановления нормосистолии не отмечается восстановление адекватной гемодинамики. Брадикардия, которая может свидетельствовать о повышенном тонусе вагуса, требует немедленного внутривенного введения 0,3-1 мл 0,1% раствора атроп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развернутой клинической картине шока и отсутствии признаков застойной сердечной недостаточности терапию следует начинать с введения плазмозаменителей в суммарной дозе 400-1200 мл под контролем артериального давления, ЧСС, частоты дыханий и аускультативной картины легких. В случае указаний на существенные потери жидкости и электролитов непосредственно перед развитием острого поражения сердца с развитием шока (длительное применение больших доз мочегонных, неукротимая рвота, профузные поносы и т.п.) для борьбы с гиповолемией используется изотонический раствор натрия хлорида, в количестве до 200 мл за 10 минут с повторным введением аналогичной дозы при отсутствии эффекта или осложнений. В других случаях осуществляется пробное болюсное введение обладающего волемическим и реологическим свойствами декстрана 40 (реополиглюкина) в количестве 100 мл с повторным введением по 50 мл каждые 5 минут до достижения систолического АД 100 мм рт. ст. с последующим переходом на капельное введение или до появления признаков застойной левожелудочковой недостаточности. Поскольку максимальная разовая доза декстрана 40 не должна превышать 400 мл в связи с возможным развитием нефротоксического действия, при превышении этой дозы показан переход на декстран 70 (полиглюкин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сутствие эффекта от всего комплекса терапевтических мероприятий, включая активную борьбу с гиповолемией, или сочетание кардиогенного шока с застойной сердечной недостаточностью служит показанием к применению инотропных средств из группы прессорных аминов, которые во избежание местных нарушений кровообращения с развитием некрозов тканей следует вводить в центральную вен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памин (допмин) в дозе 1-5 мкг/кг/мин обладает вазодилатирующим эффектом, в дозе 5-15 мкг/кг/мин – вазодилатирующим и положительным инотропным (и хронотропным) эффектами, а в дозе 15-25 мкг/кг/мин – положительным инотропным (и хронотропным) и периферическим вазоконстриктивным эффектами. 800 мг препарата растворяется в 500 мл 5% раствора глюкозы (или 200 мг на 125 мл) – 1 мл полученной смеси содержит 1,6 мг, а 1 капля – 80 мкг допамина). Начальная доза составляет 3-5 мкг/кг/мин с постепенным увеличением скорости введения до достижения эффекта, максимальной дозы (25 мкг/кг/мин, хотя описывается и доза до 50 мкг/кг/мин) или развития осложнений (чаще всего синусовой тахикардии, превышающей 140 в 1 минуту, или желудочковых аритмий). Противопоказаниями к его применению служат тиреотоксикоз, феохромоцитома, сердечные аритмии, повышенная чувствительность к дисульфиду, предшествовавший прием ингибиторов МАО; при предшествовавшем приеме трициклических антидепрессантов дозы должны быть уменьше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44600" y="260280"/>
            <a:ext cx="43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Допамин (допмин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сутствие эффекта от допамина или невозможность его использования в связи с тахикардией, аритмией или повышенной чувствительностью служит показанием к присоединению или монотерапии добутамином (добутрексом), который в отличие от допамина не вызывает вазодилатацию, но обладает мощным положительным инотроптым эффектом и менее выраженной способностью увеличивать ЧСС и вызывать аритмии. 250 мг препарата разводится в 500 мл 5% раствора глюкозы (1 мл смеси содержит 0,5 мг, а 1 капля – 25 мкг добутамина). При монотерапии он назначается в дозе 2,5 мкг/кг/мин с увеличением каждые 15-30 мин на 2,5 мкг/кг/мин до получения эффекта, побочного действия или достижения дозы 15 мкг/кг/мин. При комбинации добутамина с допамином они назначаются в максимально переносимых дозах. Противопоказанием к его назначению служит идиопатический гипертрофический субаортальный стеноз, стеноз устья аор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62440" y="0"/>
            <a:ext cx="29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обутами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Гемодинамические эффекты добутамина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ышение С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ОП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ышение Ч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КДД в левом желудоч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ДЛ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отсутствии возможности использовать другие прессорные амины или при систолическом АД менее 60 мм рт. ст. показан норадреналин в возрастающей дозе, не превышающей 16 мкг/мин, обязательно в сочетании с инфузией нитроглицерина или изосорбида динитрата со скоростью 5-200 мкг/мин Противопоказанием к его применению служат тиреотоксикоз, феохромоцитома, предшествовавший прием ингибиторов МАО. При предшествовавшем приеме трициклических антидепрессантов дозы должны быть уменьше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664720" y="189000"/>
            <a:ext cx="390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Норадренали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и отсутствии эффекта от применения допамина или добутамина допустимо их сочетание с норадреналином, доза которого в этом случае должна ограничиваться 8 мкг/ми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Эффекты адренергических препаратов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85800" y="1981080"/>
            <a:ext cx="7772400" cy="4265640"/>
            <a:chOff x="685800" y="1981080"/>
            <a:chExt cx="7772400" cy="4265640"/>
          </a:xfrm>
        </p:grpSpPr>
        <p:sp>
          <p:nvSpPr>
            <p:cNvPr id="432" name=""/>
            <p:cNvSpPr/>
            <p:nvPr/>
          </p:nvSpPr>
          <p:spPr>
            <a:xfrm>
              <a:off x="6904080" y="5638680"/>
              <a:ext cx="15541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08720" y="5638680"/>
              <a:ext cx="13953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57600" y="5638680"/>
              <a:ext cx="18511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39920" y="5638680"/>
              <a:ext cx="141768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85800" y="5638680"/>
              <a:ext cx="15541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4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нальный кровоток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04080" y="51814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08720" y="51814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57600" y="51814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39920" y="51814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5800" y="51814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ДЛК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04080" y="47242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08720" y="47242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57600" y="47242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239920" y="47242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5800" y="47242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ЧС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04080" y="42670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08720" y="42670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57600" y="42670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39920" y="42670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5800" y="42670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ПС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04080" y="38098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08720" y="38098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57600" y="38098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39920" y="38098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" y="38098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04080" y="33526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08720" y="33526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57600" y="33526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39920" y="33526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5800" y="33526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ДА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04080" y="28954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08720" y="28954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57600" y="28954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39920" y="28954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5800" y="28954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А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04080" y="24382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08720" y="24382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57600" y="24382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39920" y="24382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5800" y="24382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АД ср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904080" y="19810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Добутами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08720" y="19810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Допами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657600" y="19810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орадренали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39920" y="19810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Адренали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5800" y="19810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" y="1981080"/>
              <a:ext cx="777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5800" y="6246720"/>
              <a:ext cx="777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5800" y="19810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58200" y="19810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800" y="24382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58200" y="24382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5800" y="2895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58200" y="2895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5800" y="33526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58200" y="33526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5800" y="38098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458200" y="38098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5800" y="42670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58200" y="42670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5800" y="47242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58200" y="47242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5800" y="5181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458200" y="5181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85800" y="5638680"/>
              <a:ext cx="0" cy="608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458200" y="5638680"/>
              <a:ext cx="0" cy="608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5800" y="24382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Диагностические критери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Диагностика ГК основывается на следующих основных критериях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Внезапное начал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Высокий (относительно привычных цифр) подъем А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Церебральные, кардиальные и вегетативные симпто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наличии признаков застойной сердечной недостаточности и в случае применения инотропных средств из группы прессорных аминов показано введение периферических вазодилататоров – нитратов (нитроглицерина или изосорбида динитрата со скоростью 5-200 мкг/мин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4358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противопоказаний, с целью коррекции микроциркуляторных нарушений, особенно при длительно некупирующемся шоке показано назначение гепарина – 5-10 тыс. МЕ внутривенно болюсно, затем капельно со скоростью 1 тыс. МЕ/час, либо однократно болюсно 10-15 тыс. МЕ с продолжением терапии в стационаре (см. раздел “Острый коронарный синдром”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эффекта от адекватно проводимой терапии показано применение внутриаортальной баллонной контрпульсации как способ временной стабилизации гемодинамики до выполнения более радикального вмешательств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внутрикоронарной баллонной ангиопластики и др.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ТАКТИКА ПРИ ФИБРИЛЛЯЦИИ ЖЕЛУДОЧКО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Основным способом лечения фибрилляции желудочков является электрическая дефибрилляция. Начальная энергия разряда составляет 200 – 360 Дж. При отсутствии электрического дефибриллятора допустимо выполнение прекордиального уда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При сохранении фибрилляции желудочков повторяют электрический разря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При неэффективности – возобновляют основные реанимационные мероприятия, производят интубацию трахеи, налаживают венозный доступ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) Адреналин 1 мг в/в струйно каждые 3 – 5 ми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) Возрастающие дозы адреналина 1-3-5 мг в/в каждые 3 минуты, или применение промежуточных доз 2-5 мг в/в каждые 3-5 мину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) Если в течение 1 минуты не восстановлен ритм, то выполняется электрическая дефибрилляция разрядом 360 Дж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) При продолжающейся фибрилляции желудочков используют антиаритмические препарат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Лидокаин 1,5 мг/кг в/в струйно повторяют через 3–5 мин. В случае восстановления кровообращения налаживают непрерывную инфузию лидокаина со скоростью 2-4 мг/ми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Сульфат магния 1-2 г в/в в течение 1-2 мин. (Предпочтение сульфату магния можно отдать в случае заведомой гипомагниемии, желудочковой тахикардии типа torsade de pointes (“пируэт”)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8) Бикарбонат натрия вводят в/в 1 мэкв/кг, повторяя введение 0,5 мэкв/кг каждые 10 мин при сохраняющейся в течение продолжительного времени остановке кровообращени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комендуется чередовать введение лекарственных препаратов с разрядами дефибриллятора по схеме: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“лекарство – разряд – лекарство – разряд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едует отметить, что развитие асистолии после электрической дефибрилляции может быть обусловлено выраженной ваготони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ТАКТИКА ПРИ АСИСТОЛИИ</a:t>
            </a:r>
            <a:br>
              <a:rPr sz="4800"/>
            </a:b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еречень вопросов обязательных при диагностике гипертонического криза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т ли пациент регулярную гипотензивную терапию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з может развиться на фоне неадекватной терапии или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ее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мены (например, бета-адреноблокаторов, клофелина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появилась симптоматика и сколько длится кр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кризе АД нарастает в течение минут, часов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и ли попытки самостоятельно купировать Г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Чем раньше удавалось снизить А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?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ыл ли эффе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о должно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ываться при выборе гипотензивного средств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и для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учета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можност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заимодейств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тика лечения этой причины остановки кровообращения практически не отличается от изложенной выше. Необходимо обратить внимание на следующее: ЭКГ в одном отведении при мелковолновой фибрилляции желудочков может симулировать асистолию и поэтому асистолия должна быть подтверждена в нескольких отведениях ЭКГ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лектрическая дефибрилляция при асистолии 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не показан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в связи с тем что разряд может лишь усилить ваготони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Лечение: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Основные реанимационные мероприятия – непрямой массаж сердца и ИВ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Адреналин 1 мг внутривенно струйно каждые 3 – 5 мину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Атропин 1 мг внутривенно струйно, повторные введения каждые 3 – 5 минут до общей дозы 0,04 мг/к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Допамин в дозе 5 – 20 мкг/кг мин (разводится 200 мг препарата на 400 мл физиологического раствор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Электрокардиостимуляция (при асистолии может применяться трансторакальная стимуляция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) Бикарбонат натрия в/в 2–4 г (50 – 100 мл 4% раствора), повторное введение 2 г каждые 10 ми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тика оказания неотложной помощи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зависит о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женности симптоматик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ты и стойкости АД, в частности диастолического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причины, вызвавшей повышение А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характера осложн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Федеральное руководство для врачей по использованию лекарственных средств, выпуск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2001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4-12-19T14:53:00Z</dcterms:modified>
  <cp:revision>32</cp:revision>
  <dc:subject/>
  <dc:title>Неотложная  Кардиология</dc:title>
</cp:coreProperties>
</file>